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52280" y="6400800"/>
            <a:ext cx="68580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152280" y="142920"/>
            <a:ext cx="8840880" cy="100008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53b60"/>
              </a:gs>
              <a:gs pos="100000">
                <a:srgbClr val="0a8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"/>
          <p:cNvSpPr/>
          <p:nvPr/>
        </p:nvSpPr>
        <p:spPr>
          <a:xfrm>
            <a:off x="8534520" y="6400800"/>
            <a:ext cx="4572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64400" y="644364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F1AB-E538-4FD2-A169-D30FC642B24E}" type="slidenum"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"/>
          <p:cNvSpPr/>
          <p:nvPr/>
        </p:nvSpPr>
        <p:spPr>
          <a:xfrm rot="10800000">
            <a:off x="254160" y="114264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7140600" y="6431040"/>
            <a:ext cx="1235160" cy="245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228600" y="640080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loxum  Corporation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www.veloxum.com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©2007 -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15238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ACO solution improves the efficiency and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 your environment for both physical and virtu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creates specific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eliminate efficiency and capacity restrictions ca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improper and non-optimal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immediately reduces expense account and capital expenditures by allowing you to better utilize the systems and resources you alread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5360" y="352440"/>
            <a:ext cx="85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bout Velox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57200" y="1371600"/>
            <a:ext cx="8686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overall CPU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CPU = Less Power Consumed + Less Hea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PU utilization reductions of up to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Works with multiple generations of hardware and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does not require new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cations are more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ramatically improved network and disk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systems are needed to perform the sam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oes not require administrators to replace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d improvement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crosoft - Exchange, SharePoint,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VMware – ESX 3.5/4.x and vSphe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upport for Windows, Linux, AIX, OSX and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rove Efficiency Operations &amp;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28600" y="1371600"/>
            <a:ext cx="86868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d appliance and clients with little or no required assistance by Velox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of 120+ servers/workstations optim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loyed Veloxum agents on workstations/servers have posed no performa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ance has been executed on downrev/spare equipment with n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IT staff have been trained and understand th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Statu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1371600"/>
            <a:ext cx="86868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networking throughput by 4x - 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creased disk latencies on servers by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and documented misconfigured network ports across entire network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backup throughput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dramatic disk bottlenecks related to Symantec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elping with improvements to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lete benchmarking of improvements to file servers and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Result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137160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systems licen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ESX host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Guest OS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extra license for monitoring v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s if a license exp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remain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ctive monitoring/optimizations are suspended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28600" y="1371600"/>
            <a:ext cx="8686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uninstalls cl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hooks or components are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executed on the guest will not rescind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may also be performed from the Veloxum GUI in order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Remove Veloxum softwar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from a g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iscontinue further optimizations on a guest, leaving past optimizatio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28600" y="1371600"/>
            <a:ext cx="8686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lients run within different VL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clients communicate with the appliance via outgoing connections from the guest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are able to operate via web prox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may communicate using any configurable/available port, like 443 (SS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onfigured to use multiple, bridged virtual network adapters which span multiple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loned to operate in different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28600" y="1371600"/>
            <a:ext cx="8686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Veloxum customers willing to act as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OCES has already met with Maimonides Medical Center in Brooklyn, 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other large, multi-homed user of VMware &amp; Citrix on servers will be mad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45:21Z</dcterms:created>
  <dc:creator>Michael Lazar</dc:creator>
  <dc:description/>
  <dc:language>en-US</dc:language>
  <cp:lastModifiedBy>Joshua Pincus</cp:lastModifiedBy>
  <cp:lastPrinted>2008-02-08T14:25:00Z</cp:lastPrinted>
  <dcterms:modified xsi:type="dcterms:W3CDTF">2011-02-09T05:38:52Z</dcterms:modified>
  <cp:revision>52</cp:revision>
  <dc:subject/>
  <dc:title>PowerPoint Presentation</dc:title>
</cp:coreProperties>
</file>